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C17-3F5C-458A-971F-70E69779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138-497E-4044-A191-EE693DEC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792-5282-40DB-8FA3-BC28F04D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F5D-47DC-4F1A-82DE-E405CF45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5FC-C9EC-4CE4-980F-6B907C2B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A64-6926-4E32-A8BA-879C5B9C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BD6-613E-413D-AB13-C257BFD7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2AD-309B-44C7-A677-23341910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470-6A10-4924-8A6F-AF36426D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3CD-59A1-44A7-A0DC-DE5F2753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83C-0A55-4542-BB58-FBD1AFD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842-9576-4816-8349-8F6299CE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CE9-86EF-4334-BCF0-FFD076381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t and Mouse G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Nicholas Milba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57200" y="380880"/>
            <a:ext cx="2133720" cy="22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380880"/>
            <a:ext cx="2743200" cy="198144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685800" y="3124080"/>
            <a:ext cx="1295280" cy="35053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13440 h 3505320"/>
              <a:gd name="textAreaBottom" fmla="*/ 254160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3581280"/>
            <a:ext cx="2819520" cy="289584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3962520" y="457200"/>
            <a:ext cx="1981080" cy="2286000"/>
          </a:xfrm>
          <a:prstGeom prst="upDownArrow">
            <a:avLst>
              <a:gd name="adj1" fmla="val 50000"/>
              <a:gd name="adj2" fmla="val 229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65760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1596 C 0.01718 -0.02382 -0.00157 -0.03353 -0.02032 -0.037 C -0.02587 -0.04185 -0.03039 -0.04232 -0.03646 -0.04555 C -0.06302 -0.06035 -0.04011 -0.04995 -0.05365 -0.05619 C -0.05625 -0.05943 -0.06007 -0.06243 -0.06164 -0.06659 C -0.06268 -0.06937 -0.0632 -0.07261 -0.06476 -0.07515 C -0.06598 -0.07723 -0.06823 -0.07769 -0.06962 -0.07931 C -0.08368 -0.0955 -0.09289 -0.10706 -0.11094 -0.11307 C -0.12066 -0.11954 -0.13073 -0.12324 -0.14098 -0.12833 C -0.14479 -0.13272 -0.15365 -0.14058 -0.15365 -0.14035 C -0.15556 -0.14752 -0.15851 -0.15168 -0.16164 -0.15746 C -0.16268 -0.16162 -0.16667 -0.16648 -0.16476 -0.17018 C -0.15903 -0.18151 -0.15139 -0.18752 -0.14254 -0.19353 C -0.10764 -0.19214 -0.09028 -0.19237 -0.06164 -0.18498 C -0.05365 -0.17804 -0.03559 -0.17457 -0.02518 -0.17434 C 0.13975 -0.17226 0.47014 -0.17018 0.47014 -0.16995 C 0.51441 -0.1711 0.72465 -0.18197 0.75573 -0.1681 C 0.76545 -0.15584 0.78003 -0.15099 0.7908 -0.14058 C 0.79409 -0.12763 0.79357 -0.11376 0.79548 -0.10035 C 0.79496 0.06936 0.79461 0.2393 0.79392 0.40901 C 0.79357 0.50057 0.79323 0.59237 0.79236 0.68393 C 0.79218 0.70381 0.79583 0.75907 0.78437 0.76416 C 0.75746 0.76023 0.77465 0.75722 0.73993 0.76 C 0.72986 0.76231 0.71961 0.76508 0.70972 0.76832 C 0.70086 0.77456 0.6967 0.77502 0.68593 0.77687 C 0.6658 0.77618 0.64583 0.77595 0.62569 0.77479 C 0.621 0.77456 0.6092 0.77271 0.60347 0.77063 C 0.60017 0.76948 0.59705 0.76763 0.59392 0.76624 C 0.59236 0.76554 0.58906 0.76416 0.58906 0.76439 C 0.57916 0.75537 0.5658 0.7519 0.55416 0.74936 C 0.54514 0.74543 0.53507 0.74312 0.52569 0.74104 C 0.50902 0.73294 0.49114 0.7378 0.47482 0.74312 C 0.46423 0.75352 0.45312 0.75838 0.44149 0.76624 C 0.43889 0.76786 0.43628 0.76948 0.4335 0.77063 C 0.42934 0.77225 0.42083 0.77479 0.42083 0.77502 C 0.40659 0.7741 0.39218 0.77387 0.37795 0.77271 C 0.37152 0.77225 0.36545 0.76716 0.35902 0.76624 C 0.35104 0.76508 0.34323 0.76485 0.33524 0.76416 C 0.32205 0.76277 0.29548 0.76 0.29548 0.76023 C 0.25816 0.74335 0.19184 0.7519 0.16666 0.75144 C 0.15139 0.74913 0.13611 0.74635 0.12083 0.74312 C 0.11267 0.73942 0.09548 0.73641 0.09548 0.73664 C 0.08402 0.73156 0.07257 0.72994 0.06059 0.72832 C 0.00121 0.70289 -0.05955 0.70612 -0.12205 0.70497 C -0.13177 0.69641 -0.12587 0.70219 -0.13941 0.68393 C -0.14045 0.68254 -0.14254 0.6793 -0.14254 0.6793 C -0.14792 0.66057 -0.14011 0.68693 -0.14757 0.66682 C -0.15052 0.65849 -0.15191 0.6467 -0.15365 0.63745 C -0.15712 0.59005 -0.15434 0.60739 -0.15851 0.5845 C -0.15643 0.37895 -0.16563 0.48023 -0.15209 0.40693 C -0.15122 0.36508 -0.15087 0.34797 -0.14584 0.31375 C -0.14132 0.11329 -0.14757 0.41179 -0.14254 -0.04324 C -0.14236 -0.05503 -0.13247 -0.06428 -0.12518 -0.06659 C -0.11736 -0.0733 -0.10938 -0.07746 -0.10139 -0.08347 C -0.09809 -0.08602 -0.09549 -0.09087 -0.09184 -0.09203 C -0.08976 -0.09272 -0.0875 -0.09318 -0.08542 -0.09411 C -0.08212 -0.09526 -0.07587 -0.09827 -0.07587 -0.09804 C -0.03611 -0.09711 -0.004 -0.0948 0.0335 -0.08995 C 0.20538 -0.0081 0.39861 -0.08763 0.58125 -0.08555 C 0.60191 -0.08532 0.61788 -0.06474 0.6368 -0.05804 C 0.64548 -0.05041 0.65468 -0.04486 0.66215 -0.03492 C 0.66701 -0.02151 0.67604 -0.01249 0.68125 0.00115 C 0.68298 0.01063 0.68663 0.02265 0.6908 0.03075 C 0.69323 0.04069 0.69687 0.04878 0.70017 0.05803 C 0.70156 0.06219 0.70347 0.07075 0.70347 0.07098 C 0.71545 0.16763 0.70173 0.26936 0.70972 0.3667 C 0.70902 0.43768 0.7243 0.51329 0.69392 0.57387 C 0.69062 0.5919 0.69479 0.57364 0.68906 0.58843 C 0.68836 0.59075 0.68802 0.59306 0.6875 0.59514 C 0.68698 0.59791 0.6868 0.60092 0.68593 0.60346 C 0.68437 0.60739 0.68125 0.61017 0.67968 0.6141 C 0.67725 0.62034 0.67552 0.62682 0.67326 0.63306 C 0.67222 0.6356 0.66927 0.64185 0.66684 0.64369 C 0.66389 0.64554 0.65746 0.64786 0.65746 0.64809 C 0.65225 0.65248 0.64739 0.65595 0.64149 0.65849 C 0.56059 0.6578 0.47951 0.65803 0.39861 0.65618 C 0.3618 0.65572 0.3283 0.64601 0.29236 0.64161 C 0.24444 0.6356 0.12656 0.63745 0.12239 0.63745 C 0.096 0.6319 0.06892 0.62936 0.04305 0.62034 C 0.03142 0.60994 0.04618 0.62219 0.03194 0.6141 C 0.03021 0.61317 0.02899 0.61109 0.02725 0.60994 C 0.02569 0.60901 0.02396 0.60855 0.02239 0.60786 C 0.0158 0.59861 0.00607 0.5926 0.00017 0.58242 C -0.0066 0.57063 -0.0099 0.55676 -0.01719 0.54635 C -0.01771 0.54427 -0.01806 0.54196 -0.01893 0.54011 C -0.01979 0.53711 -0.02136 0.53456 -0.02205 0.53132 C -0.02448 0.52208 -0.02396 0.51491 -0.0283 0.50635 C -0.03802 0.43976 -0.03195 0.3704 -0.02674 0.30335 C -0.02587 0.27606 -0.0257 0.24763 -0.02032 0.2208 C -0.01962 0.20716 -0.01806 0.16878 -0.01094 0.15537 C -0.00903 0.15167 -0.00643 0.14843 -0.00452 0.14474 C 0.00017 0.13502 0.00243 0.12601 0.00972 0.11953 C 0.01389 0.11121 0.02066 0.10265 0.02725 0.09826 C 0.03211 0.08855 0.04045 0.08485 0.04791 0.0793 C 0.06267 0.06797 0.07864 0.06173 0.09392 0.05179 C 0.09913 0.04832 0.10555 0.04739 0.11128 0.04554 C 0.11632 0.04393 0.12725 0.04115 0.12725 0.04138 C 0.13732 0.03445 0.146 0.03421 0.15746 0.03283 C 0.18246 0.0245 0.20781 0.01826 0.2335 0.01595 C 0.25486 0.01202 0.27517 0.00901 0.29705 0.00739 C 0.32448 0.00138 0.35347 0.00092 0.38125 -0.00116 C 0.43541 -0.00047 0.49757 -0.03353 0.54461 0.00323 C 0.55555 0.01179 0.53958 0.00369 0.5526 0.00948 C 0.55902 0.01803 0.56389 0.02658 0.57014 0.03491 C 0.57257 0.04485 0.57656 0.04971 0.58125 0.05803 C 0.58732 0.0689 0.59305 0.08046 0.59861 0.09202 C 0.60503 0.10497 0.60972 0.12323 0.61771 0.13433 C 0.62014 0.14381 0.62639 0.15167 0.62882 0.16161 C 0.63194 0.17456 0.63698 0.18335 0.64149 0.1956 C 0.64357 0.21248 0.64913 0.22936 0.65573 0.24416 C 0.65972 0.27283 0.67135 0.30173 0.67968 0.32878 C 0.68402 0.35815 0.68836 0.38982 0.6908 0.41965 C 0.68975 0.44786 0.69583 0.46566 0.68281 0.483 C 0.68107 0.48786 0.68021 0.49341 0.67795 0.4978 C 0.67309 0.50751 0.65868 0.51953 0.65104 0.52531 C 0.64774 0.52786 0.64531 0.53317 0.64149 0.53387 C 0.63073 0.53572 0.62048 0.53826 0.60972 0.54011 C 0.59514 0.54658 0.57882 0.55028 0.56371 0.55283 C 0.55711 0.55398 0.55121 0.55768 0.54461 0.55907 C 0.53333 0.56138 0.51493 0.56254 0.50503 0.56346 C 0.41354 0.56277 0.32187 0.56254 0.23038 0.56115 C 0.22048 0.56092 0.21146 0.5593 0.20191 0.55699 C 0.19392 0.55491 0.17795 0.55075 0.17795 0.55098 C 0.17257 0.54589 0.16666 0.53849 0.16041 0.53595 C 0.15121 0.52763 0.1467 0.52046 0.13975 0.50843 C 0.13767 0.49895 0.13264 0.49294 0.12882 0.48508 C 0.12534 0.47861 0.12361 0.47075 0.12083 0.46404 C 0.11059 0.44046 0.1033 0.40948 0.09705 0.38358 C 0.09305 0.34774 0.09479 0.36369 0.09218 0.33502 C 0.09288 0.30543 0.08854 0.27445 0.09548 0.24624 C 0.1026 0.21734 0.1283 0.17965 0.14635 0.16161 C 0.15312 0.15491 0.1625 0.15283 0.1684 0.14474 C 0.17569 0.13502 0.17413 0.13572 0.18437 0.12994 C 0.19427 0.12416 0.20486 0.12069 0.21458 0.11514 C 0.22934 0.10682 0.23507 0.09919 0.24948 0.09618 C 0.27152 0.08185 0.29496 0.07606 0.31927 0.07283 C 0.3526 0.07352 0.38593 0.07329 0.41927 0.07514 C 0.42569 0.0756 0.43194 0.07791 0.43836 0.0793 C 0.44149 0.08 0.44791 0.08138 0.44791 0.08138 C 0.46319 0.09156 0.4434 0.0793 0.46371 0.08763 C 0.46788 0.08948 0.47413 0.09595 0.47795 0.09826 C 0.48003 0.09919 0.48211 0.09919 0.48437 0.10011 C 0.48715 0.1015 0.48975 0.10289 0.49236 0.10474 C 0.49826 0.10867 0.5033 0.11445 0.50972 0.11722 C 0.5158 0.12346 0.52031 0.12971 0.52708 0.13433 C 0.53177 0.14242 0.53732 0.14913 0.54149 0.15745 C 0.54323 0.16531 0.54757 0.17086 0.54948 0.17872 C 0.55295 0.19283 0.55468 0.20092 0.55902 0.21456 C 0.56441 0.2504 0.56788 0.2867 0.57326 0.32231 C 0.57274 0.35745 0.57257 0.39283 0.5717 0.42797 C 0.571 0.45433 0.55937 0.47005 0.54149 0.47884 C 0.52777 0.48554 0.53854 0.48231 0.51927 0.48508 C 0.44045 0.48439 0.36163 0.48439 0.28281 0.483 C 0.26371 0.48277 0.24843 0.46658 0.23038 0.46173 C 0.22465 0.45641 0.21788 0.45202 0.21128 0.44924 C 0.20764 0.44439 0.20312 0.44023 0.20017 0.43445 C 0.19757 0.42959 0.19236 0.41965 0.19236 0.41988 C 0.18975 0.40578 0.18489 0.39352 0.18281 0.37942 C 0.18368 0.35953 0.18194 0.33919 0.1908 0.32231 C 0.19323 0.31283 0.19652 0.30612 0.20191 0.29919 C 0.20694 0.28508 0.20746 0.28855 0.21458 0.27791 C 0.22031 0.26936 0.22534 0.25757 0.23038 0.24832 C 0.23194 0.24554 0.23489 0.24462 0.2368 0.24208 C 0.23871 0.23953 0.23958 0.23606 0.24149 0.23352 C 0.24861 0.22404 0.25798 0.21572 0.26527 0.20601 C 0.26718 0.20346 0.26805 0.19976 0.27014 0.19768 C 0.27291 0.19468 0.27673 0.19375 0.27968 0.19121 C 0.28246 0.1889 0.28455 0.1852 0.2875 0.18289 C 0.29896 0.17387 0.31267 0.16739 0.32569 0.16393 C 0.3335 0.1563 0.35034 0.15514 0.36059 0.15329 C 0.37795 0.15398 0.39566 0.15352 0.41302 0.15537 C 0.41857 0.15583 0.42118 0.16069 0.42569 0.16393 C 0.43593 0.17179 0.44618 0.18173 0.4526 0.1956 C 0.45677 0.20485 0.45972 0.21526 0.46527 0.22312 C 0.46597 0.23005 0.46875 0.23699 0.46857 0.24416 C 0.46701 0.30751 0.47135 0.31283 0.45416 0.35838 C 0.45295 0.36161 0.45208 0.36531 0.45104 0.36878 C 0.45052 0.37086 0.45017 0.37317 0.44948 0.37526 C 0.44444 0.38867 0.43264 0.39699 0.42239 0.40069 C 0.40486 0.4 0.3875 0.3993 0.37014 0.39838 C 0.35955 0.39768 0.34896 0.39028 0.33836 0.38797 C 0.31875 0.37433 0.34635 0.39213 0.32413 0.3815 C 0.32239 0.38057 0.321 0.37849 0.31927 0.37734 C 0.31771 0.37618 0.31614 0.37595 0.31458 0.37526 C 0.30364 0.36069 0.30885 0.36578 0.30017 0.35838 C 0.296 0.34982 0.29166 0.34057 0.28906 0.33086 C 0.2901 0.30982 0.28576 0.29364 0.29861 0.28231 C 0.30868 0.26242 0.32708 0.24809 0.34461 0.24416 C 0.36909 0.24624 0.36805 0.24231 0.38125 0.25895 C 0.38264 0.26705 0.38559 0.27237 0.3875 0.28 C 0.38698 0.28508 0.3875 0.30335 0.38437 0.3119 C 0.38333 0.31421 0.38281 0.31653 0.38125 0.31815 C 0.37986 0.31953 0.37621 0.32023 0.37621 0.3204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5607E-006 C -0.00313 -0.00254 -0.00677 -0.0037 -0.00955 -0.00624 C -0.02118 -0.01664 -0.00591 -0.01063 -0.02223 -0.0148 C -0.04827 -0.03514 -0.00643 -0.00323 -0.04289 -0.02751 C -0.06893 -0.04485 -0.03455 -0.02659 -0.06355 -0.04439 C -0.06546 -0.04555 -0.06771 -0.04555 -0.0698 -0.04647 C -0.07257 -0.04763 -0.07518 -0.04901 -0.07778 -0.05063 C -0.08403 -0.0548 -0.09046 -0.05965 -0.09688 -0.06335 C -0.1066 -0.0689 -0.11823 -0.06959 -0.12848 -0.07191 C -0.1441 -0.07537 -0.15886 -0.08023 -0.17466 -0.08231 C -0.2165 -0.08092 -0.22691 -0.07954 -0.26025 -0.07607 C -0.26771 -0.07445 -0.27518 -0.07375 -0.28264 -0.07191 C -0.29948 -0.06797 -0.31563 -0.05549 -0.33177 -0.04855 C -0.33334 -0.04717 -0.33507 -0.04601 -0.33646 -0.04439 C -0.3382 -0.04254 -0.33941 -0.03977 -0.34132 -0.03792 C -0.34323 -0.03607 -0.34566 -0.03537 -0.34757 -0.03375 C -0.35035 -0.03121 -0.35296 -0.02821 -0.35556 -0.02543 C -0.36233 -0.00254 -0.354 -0.02728 -0.36511 -0.00416 C -0.37362 0.01388 -0.37987 0.03746 -0.38577 0.05711 C -0.39184 0.077 -0.39532 0.0985 -0.40157 0.11838 C -0.4033 0.1348 -0.4066 0.15052 -0.40799 0.16694 C -0.41233 0.21434 -0.41337 0.26197 -0.42084 0.30867 C -0.42431 0.357 -0.42796 0.40486 -0.4349 0.45249 C -0.43368 0.4837 -0.43438 0.51769 -0.41285 0.53688 C -0.41181 0.53896 -0.41077 0.54151 -0.40955 0.54336 C -0.4073 0.54705 -0.40382 0.54983 -0.40157 0.55399 C -0.39983 0.55792 -0.39896 0.56278 -0.39688 0.56648 C -0.3908 0.57711 -0.38403 0.58289 -0.37622 0.58983 C -0.36927 0.59584 -0.36337 0.60532 -0.35556 0.60879 C -0.34792 0.61665 -0.34098 0.62705 -0.33177 0.63006 C -0.32605 0.63723 -0.32188 0.64231 -0.31424 0.64486 C -0.30243 0.65503 -0.30834 0.65226 -0.29705 0.65526 C -0.28594 0.66497 -0.29098 0.6622 -0.28264 0.6659 C -0.27709 0.6733 -0.27327 0.67376 -0.26667 0.67862 C -0.25035 0.69064 -0.23334 0.69827 -0.2158 0.70613 C -0.18282 0.72093 -0.15052 0.73804 -0.11737 0.7526 C -0.10052 0.76 -0.08438 0.76833 -0.06667 0.77156 C -0.02587 0.78775 0.01805 0.79006 0.06024 0.79283 C 0.10642 0.78729 0.15243 0.78312 0.19843 0.77804 C 0.22222 0.77203 0.246 0.7674 0.26979 0.76116 C 0.28958 0.74937 0.31215 0.74104 0.32708 0.71885 C 0.33281 0.71029 0.33524 0.69896 0.33975 0.68925 C 0.34132 0.67838 0.34392 0.6696 0.34757 0.65966 C 0.35798 0.59561 0.35503 0.5244 0.34757 0.46081 C 0.34704 0.36717 0.34757 0.2733 0.346 0.17966 C 0.34566 0.15653 0.31979 0.11099 0.30312 0.10567 C 0.29704 0.10151 0.29236 0.09757 0.28576 0.09526 C 0.27691 0.0874 0.26736 0.0807 0.25711 0.07815 C 0.23159 0.06104 0.20277 0.05272 0.17465 0.04856 C 0.12916 0.04994 0.07829 0.04555 0.03333 0.05919 C 0.02066 0.06312 0.01163 0.07168 8.33333E-007 0.07815 C -0.01441 0.08601 -0.03039 0.08948 -0.04445 0.09734 C -0.06233 0.10705 -0.07813 0.11977 -0.09514 0.1311 C -0.11268 0.14289 -0.12882 0.15723 -0.14601 0.16925 C -0.15105 0.17272 -0.15695 0.17364 -0.16181 0.17757 C -0.18004 0.1926 -0.19862 0.21295 -0.2158 0.23052 C -0.22518 0.24 -0.23577 0.24763 -0.24445 0.25804 C -0.26077 0.277 -0.27639 0.3022 -0.29063 0.32347 C -0.29879 0.33619 -0.30296 0.35353 -0.30955 0.36786 C -0.31528 0.39492 -0.31737 0.41179 -0.31268 0.44393 C -0.31025 0.46035 -0.29723 0.48093 -0.29063 0.4948 C -0.26962 0.53757 -0.23768 0.56809 -0.20625 0.59607 C -0.18507 0.6148 -0.18177 0.62197 -0.15868 0.63838 C -0.14237 0.64994 -0.11042 0.6733 -0.08733 0.6807 C -0.04584 0.69411 -0.05191 0.69226 -0.02066 0.69549 C 0.0026 0.69364 0.02621 0.69411 0.0493 0.68925 C 0.06944 0.68486 0.08906 0.67399 0.10798 0.66382 C 0.1467 0.64324 0.1776 0.62151 0.21267 0.59191 C 0.21736 0.58798 0.22274 0.58567 0.22708 0.58127 C 0.25208 0.5563 0.2677 0.52416 0.27934 0.48625 C 0.28263 0.47561 0.2842 0.46382 0.28576 0.45249 C 0.28715 0.44278 0.28888 0.42289 0.28888 0.42289 C 0.28836 0.41364 0.28854 0.4044 0.28732 0.39538 C 0.28645 0.38914 0.28194 0.38151 0.27934 0.37642 C 0.27656 0.37087 0.27413 0.36509 0.27152 0.35931 C 0.26388 0.34266 0.24218 0.32555 0.2302 0.31492 C 0.21163 0.2985 0.19253 0.2807 0.17152 0.27052 C 0.15017 0.26035 0.12743 0.25572 0.10486 0.25364 C 0.08055 0.25434 0.05607 0.25434 0.03177 0.25572 C 0.01076 0.25688 -0.0073 0.27792 -0.02691 0.28324 C -0.04375 0.29249 -0.06094 0.30405 -0.07622 0.31723 C -0.079 0.31954 -0.08108 0.32324 -0.08403 0.32555 C -0.08646 0.3274 -0.08959 0.32786 -0.09202 0.32971 C -0.09532 0.33226 -0.09844 0.33549 -0.10157 0.33827 C -0.11077 0.35492 -0.12639 0.36856 -0.13802 0.38266 C -0.16337 0.41318 -0.18941 0.45018 -0.2224 0.4652 C -0.23282 0.46451 -0.24341 0.46405 -0.254 0.46289 C -0.26407 0.46174 -0.2573 0.46104 -0.26511 0.45457 C -0.27327 0.44786 -0.28108 0.4437 -0.28907 0.43561 C -0.30243 0.40486 -0.3257 0.38058 -0.34289 0.35307 C -0.3474 0.33757 -0.35591 0.32763 -0.36355 0.31492 C -0.36719 0.30289 -0.37101 0.29018 -0.37778 0.28116 C -0.37987 0.26729 -0.38542 0.25827 -0.38889 0.24532 C -0.39219 0.2333 -0.39375 0.22127 -0.39688 0.20925 C -0.39862 0.19214 -0.40799 0.15746 -0.4158 0.14174 C -0.41737 0.1311 -0.4198 0.12231 -0.42223 0.11214 C -0.42275 0.11006 -0.42379 0.10567 -0.42379 0.10567 C -0.425 0.08093 -0.42275 0.05295 -0.43646 0.03376 C -0.44289 0.03515 -0.44966 0.03468 -0.45556 0.03815 C -0.46233 0.04208 -0.46112 0.04555 -0.46667 0.05087 C -0.47223 0.05619 -0.4783 0.06081 -0.48403 0.06567 C -0.48785 0.0689 -0.49028 0.07422 -0.49358 0.07815 C -0.50608 0.09318 -0.51737 0.10821 -0.52848 0.12486 C -0.53525 0.13503 -0.53872 0.14682 -0.54601 0.15653 C -0.55434 0.18312 -0.56389 0.20902 -0.5698 0.23677 C -0.57257 0.27052 -0.57431 0.3089 -0.56355 0.34035 C -0.5625 0.34359 -0.5599 0.34567 -0.55868 0.3489 C -0.55556 0.357 -0.55313 0.36578 -0.5507 0.37411 C -0.54688 0.3859 -0.54375 0.39792 -0.53785 0.40809 C -0.53056 0.43815 -0.51737 0.46567 -0.50487 0.49249 C -0.50191 0.4985 -0.49688 0.50197 -0.49358 0.50729 C -0.48993 0.5133 -0.48785 0.5207 -0.48403 0.52648 C -0.48039 0.53203 -0.47535 0.53596 -0.47136 0.54127 C -0.46112 0.55492 -0.45278 0.56948 -0.44132 0.58127 C -0.42743 0.59561 -0.41355 0.61179 -0.40487 0.63214 C -0.40035 0.64208 -0.4033 0.63538 -0.39688 0.64278 C -0.3941 0.64601 -0.38889 0.65318 -0.38889 0.65318 C -0.38785 0.65596 -0.38716 0.65919 -0.38577 0.66174 C -0.38438 0.66428 -0.38212 0.66544 -0.38091 0.66798 C -0.37118 0.68717 -0.39028 0.65989 -0.37466 0.6807 C -0.37014 0.69734 -0.37674 0.67723 -0.36823 0.69133 C -0.36719 0.69295 -0.36754 0.69572 -0.36667 0.69757 C -0.3632 0.70544 -0.3566 0.71168 -0.35243 0.71885 C -0.35052 0.72208 -0.34948 0.72601 -0.34757 0.72925 C -0.34462 0.73388 -0.34063 0.73711 -0.33802 0.74197 C -0.33542 0.74682 -0.33334 0.7526 -0.33021 0.75677 C -0.32865 0.75885 -0.32674 0.7607 -0.32535 0.76324 C -0.32084 0.77156 -0.32101 0.77642 -0.31424 0.7822 C -0.30556 0.81688 -0.27587 0.82243 -0.25243 0.82451 C -0.20261 0.82104 -0.15278 0.82035 -0.10313 0.81596 C -0.08004 0.81156 -0.05816 0.8074 -0.03507 0.80555 C 0.12777 0.80833 0.16632 0.80994 0.36823 0.80555 C 0.37413 0.80532 0.37864 0.79515 0.3842 0.79283 C 0.40399 0.76509 0.42517 0.73942 0.44444 0.71029 C 0.4559 0.69272 0.45503 0.69896 0.4651 0.6807 C 0.4717 0.6689 0.4776 0.65457 0.4809 0.64046 C 0.48316 0.63075 0.48732 0.61087 0.48732 0.61087 C 0.49062 0.56717 0.48871 0.52393 0.47934 0.48208 C 0.47795 0.46798 0.47621 0.45388 0.47465 0.43977 C 0.47361 0.39538 0.47691 0.36139 0.45868 0.32555 C 0.45694 0.31862 0.45086 0.30659 0.45086 0.30659 C 0.44774 0.29226 0.4434 0.2807 0.43975 0.26636 C 0.4375 0.25757 0.43715 0.24902 0.43333 0.24093 C 0.43125 0.22474 0.42777 0.20601 0.42378 0.19029 C 0.42291 0.18382 0.42083 0.17781 0.42066 0.17133 C 0.41961 0.14382 0.41996 0.1163 0.41909 0.08879 C 0.41823 0.06058 0.41145 0.00046 0.39201 -0.0148 C 0.3776 -0.02612 0.3493 -0.0289 0.33333 -0.03167 C 0.31649 -0.03468 0.28263 -0.03584 0.27152 -0.03584 C 0.02968 -0.03653 -0.21216 -0.03584 -0.454 -0.03584 E">
                                      <p:cBhvr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3064E-006 C 0.00261 0.00047 0.01493 0.00185 0.0191 0.00416 C 0.02084 0.00509 0.02205 0.00717 0.02379 0.00833 C 0.02518 0.00925 0.02691 0.00971 0.02847 0.01041 C 0.03438 0.02151 0.03785 0.03006 0.04601 0.03792 C 0.05122 0.04856 0.04775 0.04255 0.05712 0.0548 C 0.06806 0.07422 0.06285 0.06682 0.07136 0.07815 C 0.07361 0.0874 0.07761 0.0948 0.0809 0.10359 C 0.08212 0.10682 0.08299 0.11052 0.08403 0.11399 C 0.08525 0.11815 0.08577 0.12278 0.08733 0.12671 C 0.09271 0.14104 0.09618 0.15399 0.1 0.16902 C 0.10261 0.19006 0.10573 0.20971 0.10955 0.23029 C 0.11198 0.26336 0.11875 0.29457 0.12222 0.32763 C 0.1217 0.35376 0.12153 0.37966 0.12066 0.40578 C 0.11979 0.4333 0.11493 0.45757 0.11111 0.48393 C 0.1092 0.49665 0.11146 0.49203 0.10625 0.49873 C 0.10209 0.52671 0.08264 0.55584 0.06354 0.56856 C 0.05695 0.58127 0.06406 0.57041 0.05556 0.57711 C 0.0467 0.58405 0.04028 0.59468 0.03021 0.59815 C 0.01667 0.61619 0.03438 0.59492 0.0191 0.60671 C 0.00729 0.61596 0.00452 0.62451 -0.00798 0.62775 C -0.02621 0.64255 -0.04375 0.66312 -0.0651 0.67006 C -0.08646 0.68902 -0.11475 0.69549 -0.13975 0.69966 C -0.16285 0.70983 -0.13975 0.70035 -0.20156 0.70382 C -0.22205 0.70497 -0.24149 0.7126 -0.26198 0.71445 C -0.27864 0.72 -0.29375 0.72486 -0.31111 0.72717 C -0.32639 0.73526 -0.3441 0.73457 -0.36041 0.73781 C -0.3658 0.73896 -0.371 0.74058 -0.37621 0.74197 C -0.38055 0.74312 -0.38889 0.74613 -0.38889 0.74613 C -0.42031 0.74474 -0.45121 0.74174 -0.48264 0.73989 C -0.51163 0.73573 -0.54062 0.73156 -0.56979 0.72925 C -0.57552 0.72671 -0.58732 0.72301 -0.58732 0.72301 C -0.60295 0.71237 -0.62239 0.7096 -0.63975 0.7059 C -0.64809 0.7022 -0.65642 0.69942 -0.6651 0.69757 C -0.675 0.69249 -0.68559 0.68856 -0.69531 0.68278 C -0.69739 0.68162 -0.69948 0.67977 -0.70156 0.67862 C -0.70469 0.677 -0.71111 0.67422 -0.71111 0.67422 C -0.71545 0.65711 -0.72309 0.64231 -0.72864 0.62567 C -0.73316 0.61203 -0.73455 0.59746 -0.73819 0.58336 C -0.73871 0.57919 -0.73889 0.5748 -0.73975 0.57064 C -0.74045 0.56694 -0.74236 0.56393 -0.74288 0.56023 C -0.74496 0.54266 -0.746 0.52486 -0.74757 0.50729 C -0.75017 0.47862 -0.75989 0.44786 -0.76666 0.42058 C -0.77708 0.3785 -0.78594 0.33642 -0.79531 0.29388 C -0.79757 0.26844 -0.8026 0.24278 -0.80642 0.21757 C -0.80746 0.21064 -0.80955 0.19653 -0.80955 0.19653 C -0.80885 0.14983 -0.82274 0.07769 -0.77934 0.05919 C -0.77274 0.04555 -0.78073 0.05873 -0.76354 0.04856 C -0.76146 0.0474 -0.76059 0.04393 -0.75868 0.04231 C -0.75364 0.03792 -0.74705 0.03838 -0.74132 0.03584 C -0.71944 0.02636 -0.69132 0.02405 -0.66823 0.02104 C -0.64132 0.02174 -0.61423 0.02127 -0.58732 0.02312 C -0.58246 0.02336 -0.57795 0.02659 -0.57309 0.02752 C -0.53854 0.03492 -0.50295 0.03931 -0.46823 0.0444 C -0.4533 0.04994 -0.43767 0.05388 -0.42222 0.05711 C -0.3993 0.06705 -0.37535 0.07075 -0.35243 0.08023 C -0.34531 0.08324 -0.33524 0.09133 -0.32864 0.09503 C -0.30243 0.10983 -0.33889 0.08578 -0.30642 0.10567 C -0.26406 0.13156 -0.22708 0.1674 -0.20642 0.22405 C -0.20243 0.2511 -0.20833 0.21619 -0.2 0.24717 C -0.19791 0.2548 -0.19722 0.26289 -0.19531 0.27052 C -0.19635 0.28324 -0.19687 0.29596 -0.19844 0.30867 C -0.19965 0.31838 -0.2033 0.32509 -0.20642 0.33388 C -0.21562 0.36047 -0.22517 0.38243 -0.23819 0.40578 C -0.24913 0.42544 -0.26007 0.4474 -0.27465 0.46289 C -0.2908 0.48 -0.30781 0.49318 -0.32535 0.50729 C -0.34288 0.52139 -0.36041 0.54127 -0.37934 0.55168 C -0.39548 0.56047 -0.41215 0.56347 -0.42864 0.57064 C -0.44982 0.56786 -0.45399 0.5637 -0.47153 0.5496 C -0.48646 0.53757 -0.47673 0.54937 -0.49375 0.53064 C -0.50069 0.52301 -0.50121 0.51838 -0.50798 0.50937 C -0.52361 0.48879 -0.50885 0.51284 -0.52222 0.49249 C -0.52864 0.48278 -0.53125 0.4696 -0.53819 0.46081 C -0.54062 0.4511 -0.5441 0.44116 -0.546 0.43122 C -0.54722 0.42497 -0.5493 0.41226 -0.5493 0.41226 C -0.54878 0.39099 -0.54861 0.36994 -0.54757 0.34867 C -0.54739 0.3459 -0.54722 0.34266 -0.546 0.34035 C -0.53437 0.31838 -0.51024 0.31029 -0.49201 0.30428 C -0.46788 0.2881 -0.44114 0.29711 -0.41423 0.29804 C -0.40139 0.3022 -0.38923 0.30798 -0.37621 0.31075 C -0.36458 0.31815 -0.35243 0.31908 -0.33975 0.32116 C -0.31423 0.32994 -0.33142 0.32578 -0.28732 0.32347 C -0.27951 0.31954 -0.27205 0.31492 -0.2651 0.30867 C -0.26163 0.29457 -0.26198 0.30035 -0.26198 0.29156 E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9017E-007 C -0.01337 -0.00138 -0.02274 -0.00416 -0.0349 -0.00855 C -0.04028 -0.01572 -0.04688 -0.01664 -0.05243 -0.02335 C -0.0599 -0.0326 -0.06962 -0.05086 -0.07934 -0.05711 C -0.09115 -0.07815 -0.07639 -0.05456 -0.09045 -0.06982 C -0.10729 -0.08809 -0.09514 -0.08185 -0.10625 -0.0867 C -0.11424 -0.09664 -0.1224 -0.10589 -0.13021 -0.1163 C -0.13264 -0.11953 -0.1342 -0.1237 -0.13646 -0.12693 C -0.14254 -0.13572 -0.15 -0.14265 -0.15556 -0.15213 C -0.15764 -0.1556 -0.1592 -0.15976 -0.16181 -0.16277 C -0.16406 -0.16554 -0.16736 -0.16647 -0.16979 -0.16901 C -0.18264 -0.18265 -0.17326 -0.17595 -0.18403 -0.19028 C -0.19879 -0.20994 -0.21892 -0.23514 -0.22691 -0.26219 C -0.22882 -0.29063 -0.23281 -0.3237 -0.22066 -0.3489 C -0.21788 -0.36323 -0.21615 -0.37271 -0.20955 -0.38474 C -0.2066 -0.40462 -0.2092 -0.39213 -0.19844 -0.42057 C -0.19115 -0.44 -0.18559 -0.45479 -0.17622 -0.47352 C -0.16615 -0.49364 -0.14618 -0.50312 -0.13021 -0.51167 C -0.10573 -0.52485 -0.08038 -0.53433 -0.05399 -0.53687 C -0.02535 -0.53618 0.0033 -0.53734 0.03177 -0.53479 C 0.06805 -0.53156 0.1059 -0.51445 0.13976 -0.49896 C 0.16858 -0.48578 0.19757 -0.4719 0.22535 -0.45456 C 0.25625 -0.43514 0.22396 -0.45341 0.25243 -0.43121 C 0.26753 -0.41942 0.28403 -0.41017 0.29687 -0.39329 C 0.31684 -0.36693 0.3309 -0.33479 0.34444 -0.30219 C 0.3691 -0.24277 0.3901 -0.18751 0.4 -0.12046 C 0.39896 -0.10427 0.39878 -0.08786 0.39687 -0.0719 C 0.39236 -0.03468 0.36701 0.01896 0.3493 0.04856 C 0.34601 0.05411 0.34149 0.05804 0.33819 0.06336 C 0.32812 0.08 0.31944 0.09896 0.30799 0.11422 C 0.30417 0.11931 0.29948 0.12255 0.29531 0.12694 C 0.28785 0.13503 0.28194 0.14683 0.27309 0.15214 C 0.25174 0.16486 0.23108 0.17781 0.20799 0.18382 C 0.19045 0.18313 0.17292 0.18336 0.15555 0.18174 C 0.13177 0.17943 0.10833 0.17018 0.0842 0.16902 C 0.00903 0.16578 -0.06615 0.16671 -0.14132 0.16278 C -0.18681 0.15769 -0.16667 0.15977 -0.20156 0.15654 C -0.23247 0.15006 -0.26406 0.14821 -0.29514 0.1459 C -0.33646 0.14659 -0.38906 0.1163 -0.4191 0.15422 C -0.43125 0.18729 -0.41754 0.19792 -0.39358 0.19862 C -0.34809 0.2 -0.3026 0.20024 -0.25712 0.20093 C -0.22951 0.20324 -0.20243 0.20578 -0.17465 0.20717 C -0.12535 0.21804 -0.06076 0.2148 -0.0158 0.21573 C 0.1401 0.22844 0.01788 0.21989 0.35087 0.21781 C 0.35451 0.21735 0.37569 0.21526 0.3809 0.21341 C 0.38472 0.21203 0.38819 0.20879 0.39201 0.20717 C 0.39792 0.20139 0.40382 0.19839 0.40955 0.19237 C 0.42621 0.17526 0.44132 0.15399 0.45712 0.13526 C 0.45903 0.13295 0.46163 0.13157 0.46354 0.12902 C 0.46545 0.12648 0.46632 0.12301 0.46823 0.12047 C 0.47917 0.1059 0.46615 0.13087 0.47934 0.10775 C 0.48368 0.10012 0.49305 0.08347 0.49531 0.07607 C 0.49826 0.06567 0.49878 0.06313 0.50312 0.05295 C 0.50608 0.04578 0.5099 0.03908 0.51267 0.03168 C 0.51528 0.02451 0.51719 0.01758 0.52066 0.01064 C 0.52222 0.00047 0.5243 -0.00924 0.52708 -0.01896 C 0.53038 -0.04578 0.53802 -0.07098 0.54288 -0.09734 C 0.54219 -0.13549 0.54965 -0.17641 0.53333 -0.20924 C 0.5309 -0.22265 0.53299 -0.21526 0.52535 -0.23052 C 0.52378 -0.23352 0.52344 -0.23768 0.52222 -0.24092 C 0.5184 -0.25109 0.51337 -0.26034 0.50955 -0.27052 C 0.50903 -0.27329 0.50885 -0.2763 0.50799 -0.27907 C 0.50729 -0.28138 0.50555 -0.283 0.50486 -0.28531 C 0.50156 -0.29734 0.50104 -0.30797 0.49687 -0.3193 C 0.49253 -0.34843 0.48906 -0.37595 0.48733 -0.40578 C 0.48785 -0.43398 0.48802 -0.46219 0.48889 -0.4904 C 0.48941 -0.50751 0.49635 -0.52624 0.49844 -0.54335 C 0.49722 -0.58404 0.50503 -0.6037 0.47621 -0.61294 C 0.4625 -0.62219 0.45174 -0.6356 0.43646 -0.64046 C 0.41302 -0.65687 0.37274 -0.65711 0.34757 -0.65965 C 0.21319 -0.65896 0.07882 -0.65942 -0.05556 -0.65734 C -0.05938 -0.65734 -0.07431 -0.64786 -0.07934 -0.64485 C -0.09583 -0.63491 -0.11337 -0.62659 -0.12847 -0.61294 C -0.14149 -0.60115 -0.15243 -0.58728 -0.1651 -0.57502 C -0.16806 -0.56277 -0.17465 -0.55468 -0.1809 -0.54543 C -0.19566 -0.52346 -0.21198 -0.50589 -0.22847 -0.48624 C -0.23629 -0.47699 -0.24028 -0.46913 -0.24913 -0.46289 C -0.25781 -0.44809 -0.27049 -0.4393 -0.2809 -0.42705 C -0.29201 -0.41387 -0.28438 -0.41803 -0.29514 -0.41433 C -0.30087 -0.40346 -0.31042 -0.40092 -0.3191 -0.39537 C -0.34132 -0.39606 -0.37517 -0.38127 -0.39358 -0.40578 C -0.39688 -0.41965 -0.39219 -0.40624 -0.4 -0.41433 C -0.40156 -0.41595 -0.40191 -0.41849 -0.40313 -0.42057 C -0.40625 -0.42589 -0.41007 -0.42959 -0.41424 -0.43329 C -0.41632 -0.4326 -0.41858 -0.43213 -0.42066 -0.43121 C -0.42396 -0.43005 -0.43021 -0.42705 -0.43021 -0.42705 C -0.43854 -0.41549 -0.44879 -0.40693 -0.45556 -0.39329 C -0.46024 -0.37364 -0.45608 -0.3482 -0.45399 -0.32763 C -0.45278 -0.3156 -0.44913 -0.29179 -0.44913 -0.29179 C -0.44861 -0.20716 -0.44861 -0.12277 -0.44757 -0.03815 C -0.4474 -0.0252 -0.44271 -0.01271 -0.43333 -0.00855 C -0.41094 -0.0104 -0.38698 -0.01156 -0.3651 -0.01896 C -0.35122 -0.02381 -0.33872 -0.03167 -0.32535 -0.03815 C -0.32274 -0.04161 -0.31875 -0.04393 -0.31736 -0.04855 C -0.31458 -0.05803 -0.3151 -0.05826 -0.31111 -0.06543 C -0.30122 -0.083 -0.29097 -0.1015 -0.28576 -0.12254 C -0.28299 -0.16069 -0.27813 -0.19953 -0.27135 -0.23676 C -0.27188 -0.33341 -0.27188 -0.42982 -0.27292 -0.52647 C -0.27292 -0.53225 -0.27656 -0.53942 -0.27934 -0.54335 C -0.28924 -0.58265 -0.34184 -0.57294 -0.36181 -0.57294 L -0.23802 -0.09942 L 0.26979 -0.43121 L -0.16354 -0.48624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"/>
              </a:rPr>
              <a:t>YOU W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429000" cy="2743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4114800"/>
            <a:ext cx="3276720" cy="2590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RRY TRY AG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0"/>
            <a:ext cx="2743200" cy="2209680"/>
          </a:xfrm>
          <a:prstGeom prst="smileyFace">
            <a:avLst>
              <a:gd name="adj" fmla="val -465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4572000"/>
            <a:ext cx="2666880" cy="2286000"/>
          </a:xfrm>
          <a:prstGeom prst="smileyFace">
            <a:avLst>
              <a:gd name="adj" fmla="val -465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HANKS</a:t>
            </a:r>
            <a:r>
              <a:rPr b="0" lang="en-US" sz="1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OME BACK SOON</a:t>
            </a:r>
            <a:r>
              <a:rPr b="0" lang="en-US" sz="1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13Z</dcterms:created>
  <dc:creator>CGB</dc:creator>
  <dc:description/>
  <dc:language>en-US</dc:language>
  <cp:lastModifiedBy>CGB</cp:lastModifiedBy>
  <dcterms:modified xsi:type="dcterms:W3CDTF">2008-06-11T13:45:30Z</dcterms:modified>
  <cp:revision>5</cp:revision>
  <dc:subject/>
  <dc:title>The Cat and Mouse Game </dc:title>
</cp:coreProperties>
</file>